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DCD0-420A-4694-ACB1-0D66C6F632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0203-F036-490E-9809-C12773F1BE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C10-2E72-4C7D-8280-25A402BB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13D-7C1A-47F5-90BF-7F90DCDE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99A-9063-423F-8901-E4DD9982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ECC-83A3-4F97-8B0C-C41F00BA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52EC-935C-4DE8-90F9-BFD96348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A1A8-3FA6-4371-A96C-A78731D3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C4B8-1EFD-4BAF-BEA6-80C2BE06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24567-E359-4986-A439-590538C3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3A37-AE5C-4C16-AABA-EE0CE1E8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5EC8-0855-4884-89BD-D88EE441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D8F8-BF1F-48E2-8A41-24307900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B81-340B-4308-8AF7-C0F9A079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D575-411D-4FC1-9E1F-3A203C45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A4EF-F159-4118-8A58-23FE1A50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9E16-BA96-44AB-BD7E-2D5E4381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8E4B-FDDA-46AF-A9AB-73DBD060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E1BC-F566-442C-8516-11939CD8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4D9-F1DD-42A3-8A2E-27045445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F99-F051-461C-BB33-8EB6B9DE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DC7B-E4A5-4D56-A34D-894FD1C9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3CEA-DE5E-433C-AB98-4401590A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CC3A-8057-4C13-BD8E-75E01B6D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D3F-C20F-4EFC-B824-B2969FD8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A53C-6B9B-41F3-8554-65EE9C8B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FF75-2038-472C-99C7-3F3C1DD285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1396-254C-4C5C-857D-5F93C5630D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24BB-05A3-4D9F-B16F-04BF58A1B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6200" y="196560"/>
            <a:ext cx="8229600" cy="112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ирование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6" name="Заголовок 1"/>
          <p:cNvSpPr/>
          <p:nvPr/>
        </p:nvSpPr>
        <p:spPr>
          <a:xfrm>
            <a:off x="860400" y="2138400"/>
            <a:ext cx="7456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93680" y="1541520"/>
            <a:ext cx="86868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рган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контроля (надзора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знает декларацию о соответствии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едействительн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 случаях выявлени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х фактов несоответствия продукции обязательным требованиям технических регламент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ых сведений о заявителе и (или) об изготовителе продукции, адресах их места нахождения и (или) осуществления деятельности, в том числе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есте (местах) осуществления деятельности по изготовлению продукции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ларации о соответств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сти сведений и документов, послуживших основанием для подтверждения соответствия продукции обязательным требования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я декларации о соответствии требованиям к декларациям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установленным законодательством Российской Федерации в сфере технического регулирования и (или) правом Евразийского экономического союз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с нарушением установленных процедур обязательного подтверждения соответств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лицом, не включенным в круг заявителей на оценку соответствия по выбранной схеме декларирования, определенный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ехническим регламент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0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7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0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7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0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80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5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14.03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06" name="Объект 2"/>
          <p:cNvGraphicFramePr/>
          <p:nvPr/>
        </p:nvGraphicFramePr>
        <p:xfrm>
          <a:off x="609480" y="1339920"/>
          <a:ext cx="807732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9920"/>
                    <a:ext cx="807732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741240" y="2362320"/>
            <a:ext cx="80661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87880" y="1676520"/>
          <a:ext cx="5630760" cy="449568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094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3000"/>
          </a:bodyPr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ю Правительства РФ от 14.03.2022 N 362 «О введении временного запрета на вывоз зерновых культур за пределы территории Российской Федерации»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5 марта по 30 июня 2022 г. установлен временный запрет на вывоз из Российской Федерации пшеницы и меслина, ржи, ячменя и кукурузы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на основании разовых лицензий на экспорт, выданных Министерством промышленности и торговли Российской Федерации в соответствии с пунктом 7 постановления Правительства Российской Федера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31 декабря 2021 г. N 2595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Белоруссию в рамках Союзного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FDBF-C03D-4015-BE12-A1FA27E1CA0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4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39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8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2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6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9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2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5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8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3-17T09:50:44Z</dcterms:modified>
  <cp:revision>9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